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DE9B-5D37-4674-A5A1-EB0128DEE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ADEC-043F-4904-A809-9256F558F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32E3-74FE-463D-AF9C-90DBE652A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362E-3045-477B-9AD7-B1206CF36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A011-B1D3-4C0F-AC44-AFA7866D5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8CD2-E0B9-4100-848B-DF2E643FC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82E5-EFC0-43A7-A859-FF5D49BB0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6F2B-722E-4DCB-B501-4E0F886F8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DB86-B2EA-4CAD-B89D-5A44FA4C5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1E07-4CF5-4C17-A642-3DD4B8C74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4DA7-6255-49D6-9DCF-97CE04676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D768-844A-4326-845C-5DC048FC9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289D-8A15-47B3-93AF-FE320FB82AF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IRB-Cover-ppt"/>
          <p:cNvPicPr/>
          <p:nvPr/>
        </p:nvPicPr>
        <p:blipFill>
          <a:blip r:embed="rId2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680" y="259056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Effective Interviewing Techniqu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09680" y="50288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6 May, 20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4" descr="questions.jpg"/>
          <p:cNvPicPr/>
          <p:nvPr/>
        </p:nvPicPr>
        <p:blipFill>
          <a:blip r:embed="rId1"/>
          <a:stretch/>
        </p:blipFill>
        <p:spPr>
          <a:xfrm>
            <a:off x="3564000" y="3068640"/>
            <a:ext cx="19238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Why is proper interviewing technique importan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ocuses questions on the right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kes interviewee comfortable and cand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voids your own bi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voids “symptoms” and reaches “root caus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Uncovers the critical f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1.  Making Interviewee Comfortab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y you’re 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at you’re do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at you’re going to do with the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vite interviewee back to boardroom to ask questions and see their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2. Types of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Open En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Closed En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The Funn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195640" y="3068640"/>
            <a:ext cx="1871640" cy="2376360"/>
          </a:xfrm>
          <a:custGeom>
            <a:avLst/>
            <a:gdLst>
              <a:gd name="textAreaLeft" fmla="*/ 389880 w 1871640"/>
              <a:gd name="textAreaRight" fmla="*/ 1481760 w 1871640"/>
              <a:gd name="textAreaTop" fmla="*/ 495000 h 2376360"/>
              <a:gd name="textAreaBottom" fmla="*/ 18813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431600" y="3068640"/>
            <a:ext cx="43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Open-ended questions to begin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eg: “Describe how…”, “Tell me about…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210200" y="4076640"/>
            <a:ext cx="43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robing questions to get specific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(eg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do you mean by…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850920" y="4941720"/>
            <a:ext cx="51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losed-ended questions to confirm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eg: “ye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r “no” ques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050920" y="5661000"/>
            <a:ext cx="208764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1042920" y="3068640"/>
            <a:ext cx="865080" cy="2376360"/>
          </a:xfrm>
          <a:prstGeom prst="downArrow">
            <a:avLst>
              <a:gd name="adj1" fmla="val 50000"/>
              <a:gd name="adj2" fmla="val 6867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124000" y="2421000"/>
            <a:ext cx="208764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3.  Liste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Critically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o not cut-off interview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ait until interviewee is finished – “silence” is ok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s body language consistent with word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4.  Handling Answ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peat to confi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Ask for clarification (if require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Make your no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5.  If answer does not address your 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cknowledge and ask ag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peat a question if you did not receive a specific-enough ans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sk for examples, or to show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6.  Follow u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ummarize what you’ve he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Check fo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scribe next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Offer chance to follow up / visit board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hank the interview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47:25Z</dcterms:created>
  <dc:creator>Craig Szelestowski</dc:creator>
  <dc:description/>
  <dc:language>en-US</dc:language>
  <cp:lastModifiedBy>Owner</cp:lastModifiedBy>
  <dcterms:modified xsi:type="dcterms:W3CDTF">2013-05-06T00:11:20Z</dcterms:modified>
  <cp:revision>12</cp:revision>
  <dc:subject/>
  <dc:title>Effective Interviewing Techniques</dc:title>
</cp:coreProperties>
</file>